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AD1-DD30-4DBB-BB56-121E84CC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E00-7C4C-462B-9E49-5F8519F2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65C-9BE2-4209-AEA8-7B683D04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6EF-E57F-4330-B835-FC45DAB5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B6FB-4B0A-4CA9-857C-5AE73186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07AC-CEDA-4E08-A4ED-765CB6F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49A6-5DDE-48D9-9A69-14659762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508F-94AE-4EBC-B348-D68526CD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491F-4E39-463A-96E9-E9B9231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439B-23F9-4C14-BE8D-2326F960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F929-492B-483E-9B4B-D2818801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0D7-E26E-45BE-8347-6E25E2A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2CE6-CE76-4953-989E-9B40DBB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1B71-B765-4669-BB6D-1098872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5B1D-7877-465E-9130-F45A9053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D1C8-91AB-46C9-8065-C7643D67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D759-E318-4B2C-A858-B7218E4C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AA9-C13B-415C-BF3D-9DB64AC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15A-B751-4217-B56B-BD903B8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1A8-2387-4B6A-A7D0-95A1D142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59E-D984-4145-9FB8-9EDD079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4C7-EEBB-412A-8250-B334BCC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54B-CFCF-49B6-B96F-B65D7F4F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853-A678-4128-8513-DD9AFBDD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B912-7359-44E3-AD06-E8FE6AC850E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3DBB-3871-42A6-B55A-391BA37EFF5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СИСТЕМЫ ПРОФИЛЯ Т.М. «ЭКОПЛАСТ» И КОНСТРУКТИВНЫЕ ПРЕИМУЩЕСТВ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 Black"/>
              </a:rPr>
              <a:t>Название системы : “Eco Plast™” «Классик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Количество камер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 функциональные камеры в раме, створке и импосте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Монтажная ширин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5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Габаритная высот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70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Перекрытие притвор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Количество контуров уплотнени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2 контура сплошного уплотнения из погодоустойчивого каучук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олщина внешних стенок профил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 менее 3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еплоизоляционные характеристики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коэффициент сопротивления теплопередачи 0,58 м 2,0  С/Вт (рама), 0,61 м 2,0  С/Вт (створка) с армирование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Толщина стеклопакета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 4 до 28 м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Шумоизоляция: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 30 до 40 дБ ( в зависимости от стеклопакета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Comic Sans MS"/>
              </a:rPr>
              <a:t>Коммерческое предложение от фирмы</a:t>
            </a:r>
            <a:r>
              <a:rPr b="1" i="1" lang="ru-RU" sz="4000" spc="-1" strike="noStrike">
                <a:solidFill>
                  <a:srgbClr val="ff6600"/>
                </a:solidFill>
                <a:latin typeface="Comic Sans MS"/>
              </a:rPr>
              <a:t>   «Олимпус+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4038120"/>
            <a:ext cx="4343400" cy="26672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 Black"/>
              </a:rPr>
              <a:t>Австрийские ок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Залог успех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Гарантия качест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3-х камерный профил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Выгодная це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 Black"/>
              </a:rPr>
              <a:t>Гибкая система скидок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00200"/>
          <a:ext cx="3962160" cy="514188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914400"/>
                <a:gridCol w="1066680"/>
              </a:tblGrid>
              <a:tr h="1004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6600"/>
                          </a:solidFill>
                          <a:latin typeface="Castellar"/>
                        </a:rPr>
                        <a:t>Окна профильной системы</a:t>
                      </a: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Castellar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«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EcoPlast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Castellar"/>
                        </a:rPr>
                        <a:t>»</a:t>
                      </a:r>
                      <a:endParaRPr b="0" lang="en-US" sz="32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Изделие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Высот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Ширина</a:t>
                      </a:r>
                      <a:endParaRPr b="0" lang="en-US" sz="1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81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073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4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13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44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21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700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85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Цены указаны</a:t>
                      </a: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в грн. </a:t>
                      </a:r>
                      <a:endParaRPr b="0" lang="en-US" sz="16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762120" y="3276720"/>
            <a:ext cx="571320" cy="552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066680" y="32767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3276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066320" y="3276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1066320" y="3505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66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962520"/>
            <a:ext cx="84780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39625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837720" y="39625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4191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37720" y="39625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648320"/>
            <a:ext cx="38124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5257800"/>
            <a:ext cx="45720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5638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838080" y="5257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3772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28600" y="0"/>
          <a:ext cx="8458200" cy="14475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8380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724280" y="152388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8T10:12:1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